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322-F42E-46B2-8053-9FB0273C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32BD-F33E-461C-94E0-BC0C6563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0C51-F433-43FC-91C8-BA5BB6C5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1E8-0BC7-428D-B12A-1597A283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000-D69C-457F-94C6-051CD3FC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21-1374-4118-9BB0-C5A0094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CA6-BCDA-4045-89F2-2696F6B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293-AC5D-4650-BBA7-DC34C1B3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1E7-62B1-44EE-86E0-399EFF1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8CD-2E39-4135-828C-1112A9E8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8B1-B1AB-4F84-8892-872291A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327-01D7-465D-B9BB-21DA4BE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EB-A300-4F96-AF08-3769681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A34-943E-4BDC-A7C3-8368915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46D-15CF-4CA5-A50A-1727273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151-BB19-4711-B3C3-1AB35D7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AEC-7C51-4E7B-8939-7C9C897DF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upload.wikimedia.org/wikipedia/commons/c/c3/37_Lyndon_Johnson_3x4.jp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imdb.com/rg/mediaindex/thumbnail/media/rm1416206336/nm0000069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imdb.com/rg/mediaindex/thumbnail/media/rm1503631360/nm0000054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hyperlink" Target="http://z.about.com/d/womenshistory/1/0/z/I/jackie_kennedy.jpg" TargetMode="External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1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96920" y="523800"/>
            <a:ext cx="1292040" cy="1695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van P. Pavlov (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van P. Pavlov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3200400"/>
            <a:ext cx="403200" cy="527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8288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File:37 Lyndon Johnson 3x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342040"/>
            <a:ext cx="381240" cy="517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-76320" y="5867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. Pisarev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1" descr="Frank Sinatra, portrait for Kings Go Forth, 1958.&#10;Vintage silver gelatin, 7x13.5, signed. $900&#10;Â© 1978 Bill Avery&#10;MPT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240" y="5334120"/>
            <a:ext cx="376560" cy="53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2"/>
          <p:cNvSpPr/>
          <p:nvPr/>
        </p:nvSpPr>
        <p:spPr>
          <a:xfrm>
            <a:off x="53352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 Wund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c. 1953&#10;Photo by Frank Powoln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00320" y="5334120"/>
            <a:ext cx="371160" cy="533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5"/>
          <p:cNvSpPr/>
          <p:nvPr/>
        </p:nvSpPr>
        <p:spPr>
          <a:xfrm>
            <a:off x="121932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 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9" descr="Robert F. Kennedy - Photo"/>
          <p:cNvPicPr/>
          <p:nvPr/>
        </p:nvPicPr>
        <p:blipFill>
          <a:blip r:embed="rId11"/>
          <a:stretch/>
        </p:blipFill>
        <p:spPr>
          <a:xfrm>
            <a:off x="163440" y="6095880"/>
            <a:ext cx="37152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0"/>
          <p:cNvSpPr/>
          <p:nvPr/>
        </p:nvSpPr>
        <p:spPr>
          <a:xfrm>
            <a:off x="-7632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Wat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2" descr="A picture of First Lady Jacqueline Kennedy, wife of President John F. Kennedy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6960" y="6095880"/>
            <a:ext cx="446040" cy="594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6094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Dew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reparing to conduct the intellectual classical conditioning experi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27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Robert Frost"/>
          <p:cNvPicPr/>
          <p:nvPr/>
        </p:nvPicPr>
        <p:blipFill>
          <a:blip r:embed="rId14"/>
          <a:stretch/>
        </p:blipFill>
        <p:spPr>
          <a:xfrm>
            <a:off x="1228680" y="6095880"/>
            <a:ext cx="40176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4"/>
          <p:cNvSpPr/>
          <p:nvPr/>
        </p:nvSpPr>
        <p:spPr>
          <a:xfrm>
            <a:off x="106668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Seche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7"/>
          <p:cNvSpPr/>
          <p:nvPr/>
        </p:nvSpPr>
        <p:spPr>
          <a:xfrm>
            <a:off x="2590920" y="2590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J. Wats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luenced by you, I am going to challenge psychology and behaviorism. I would use scientific control of behavior to condition fear of ‘Little Albert’.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ugust 15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9" descr="Robert F. Kennedy - Photo"/>
          <p:cNvPicPr/>
          <p:nvPr/>
        </p:nvPicPr>
        <p:blipFill>
          <a:blip r:embed="rId15"/>
          <a:stretch/>
        </p:blipFill>
        <p:spPr>
          <a:xfrm>
            <a:off x="2133720" y="2590920"/>
            <a:ext cx="393480" cy="536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0"/>
          <p:cNvSpPr/>
          <p:nvPr/>
        </p:nvSpPr>
        <p:spPr>
          <a:xfrm>
            <a:off x="2590920" y="3886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rimental investigation…should lay a solid foundation for a future true science of psych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20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D. Glinskii you have given me the greatest idea for an experiment 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ch 28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5"/>
          <p:cNvSpPr/>
          <p:nvPr/>
        </p:nvSpPr>
        <p:spPr>
          <a:xfrm>
            <a:off x="2590920" y="51814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hysiologist who succeeds in penetrating deeper and deeper into the digestive canal becomes convinced that it consists of a number of chemical laboratories equipped with various mechanical devic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September 9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2590920" y="5943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won the Nobel Prize in Physiology or Medicine 1904. What a great joy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December 10, 19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9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8" descr="fb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6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38131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89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47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870520"/>
            <a:ext cx="4032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228600" y="609480"/>
            <a:ext cx="1293840" cy="1694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van P. Pavlov (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van P. Pavlov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8288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Seraphima Karchevska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1828800" y="3200400"/>
            <a:ext cx="60958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erform experiments on conditioned reflexes, study the reflex regulation of  the activity of the digesti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ands, writing books about classical conditioning, Professor of Pharmacology at the Military Medical Acade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Physiology, psychology, medicine, natural sciences, behavior mod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ussian classics,  Pyatnitsky Choir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Lectures on the Work of the Principal Digestive Glands, The Russian Wor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45280"/>
            <a:ext cx="685800" cy="51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838080" y="541008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Experi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45120"/>
            <a:ext cx="685800" cy="635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Labora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five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2133720" y="5105520"/>
            <a:ext cx="4495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3 Dumskaya Ulitsa, Saint Petersburg (Leningrad), Russia 19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+7 (812) 259-85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46" descr="fb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094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85800" y="15238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85800" y="47242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an P. Pavlov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762120" y="6324480"/>
            <a:ext cx="11430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Experi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abora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6" descr="4"/>
          <p:cNvPicPr/>
          <p:nvPr/>
        </p:nvPicPr>
        <p:blipFill>
          <a:blip r:embed="rId3"/>
          <a:stretch/>
        </p:blipFill>
        <p:spPr>
          <a:xfrm>
            <a:off x="5334120" y="3352680"/>
            <a:ext cx="1430280" cy="1067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60920" y="5148360"/>
            <a:ext cx="809640" cy="1057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81080" y="561960"/>
            <a:ext cx="53964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2"/>
          <p:cNvPicPr/>
          <p:nvPr/>
        </p:nvPicPr>
        <p:blipFill>
          <a:blip r:embed="rId7"/>
          <a:stretch/>
        </p:blipFill>
        <p:spPr>
          <a:xfrm>
            <a:off x="5410080" y="1981080"/>
            <a:ext cx="1295640" cy="1165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5"/>
          <p:cNvPicPr/>
          <p:nvPr/>
        </p:nvPicPr>
        <p:blipFill>
          <a:blip r:embed="rId8"/>
          <a:stretch/>
        </p:blipFill>
        <p:spPr>
          <a:xfrm>
            <a:off x="2368440" y="1905120"/>
            <a:ext cx="822600" cy="113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7" descr="oaththp"/>
          <p:cNvPicPr/>
          <p:nvPr/>
        </p:nvPicPr>
        <p:blipFill>
          <a:blip r:embed="rId9"/>
          <a:stretch/>
        </p:blipFill>
        <p:spPr>
          <a:xfrm>
            <a:off x="3505320" y="1974960"/>
            <a:ext cx="1455480" cy="107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9" descr="celebthp"/>
          <p:cNvPicPr/>
          <p:nvPr/>
        </p:nvPicPr>
        <p:blipFill>
          <a:blip r:embed="rId10"/>
          <a:stretch/>
        </p:blipFill>
        <p:spPr>
          <a:xfrm>
            <a:off x="838080" y="1981080"/>
            <a:ext cx="1150920" cy="1138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352680"/>
            <a:ext cx="113688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grmykthp"/>
          <p:cNvPicPr/>
          <p:nvPr/>
        </p:nvPicPr>
        <p:blipFill>
          <a:blip r:embed="rId12"/>
          <a:stretch/>
        </p:blipFill>
        <p:spPr>
          <a:xfrm>
            <a:off x="2309760" y="3197160"/>
            <a:ext cx="943200" cy="1255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5" descr="glennthp"/>
          <p:cNvPicPr/>
          <p:nvPr/>
        </p:nvPicPr>
        <p:blipFill>
          <a:blip r:embed="rId13"/>
          <a:stretch/>
        </p:blipFill>
        <p:spPr>
          <a:xfrm>
            <a:off x="3581280" y="3363840"/>
            <a:ext cx="1206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83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8" descr="fb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40" descr="experimetn.jpg"/>
          <p:cNvPicPr/>
          <p:nvPr/>
        </p:nvPicPr>
        <p:blipFill>
          <a:blip r:embed="rId15"/>
          <a:stretch/>
        </p:blipFill>
        <p:spPr>
          <a:xfrm>
            <a:off x="762120" y="5181480"/>
            <a:ext cx="1193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ilvio Guerrero</cp:lastModifiedBy>
  <dcterms:modified xsi:type="dcterms:W3CDTF">2011-01-04T04:42:11Z</dcterms:modified>
  <cp:revision>71</cp:revision>
  <dc:subject/>
  <dc:title>Profile</dc:title>
</cp:coreProperties>
</file>